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6BE-2B78-4E97-A518-61A2438A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4F6-5B74-4DE2-93BA-A36CADBB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19A-CA59-4192-B0A8-EB635162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3AC-731B-4C81-85DA-C08427A1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21A1-F7B2-4BFB-B59D-268FF9E1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87C6-E4DE-4FF6-80E7-3AD6CB07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0EA4-B726-436F-ACEE-E5A53610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BFB9-A5E3-4637-A75D-43F13D59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6E1E-38EA-4D41-8854-9C4674BA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C598-C884-4BE0-95EC-826A9F63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A104-58F0-4EFC-A869-1360FBAD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F2E-3AC9-4499-AA35-DBA06932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F582-19CC-488E-BF31-7967899F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CEBC-5887-4A95-8C46-9BB8C078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9BD0-6068-423F-8D11-E4FB4986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F823-E0B7-4695-9882-E0D25585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1C64-8A8A-4570-97A2-A7AC72F0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186-99FA-4E03-BD16-D0A31BC4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97E-E6E8-43D9-A946-E962F85C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A4B-5785-4F08-B5E2-7101D9CF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1D6-74B8-4840-B2E6-E9C25A38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99A-53A7-4C7B-88EE-84789980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261-78F8-4328-B0A0-85ED29FD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CFB-03D8-44F7-9DAB-48080A5F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1353-7F4C-42D7-945E-F56F523C1EF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F07F-A699-4699-97A9-4B32868FBD1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Linear Algebra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nit Portfolio Presen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tephanie Zub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it 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will learn to identify linear equations, write them in slope intercept form, and graph them using a variety of methods.  In addition, they will use linear graphing to model real world problem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rriculum-Framing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Essential Question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at can math reveal?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Unit Questions</a:t>
            </a:r>
            <a:br>
              <a:rPr sz="20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at do linear mathematical models reveal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ow do you interpret and make predictions based on linear models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Content Questions</a:t>
            </a:r>
            <a:br>
              <a:rPr sz="20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ow do you identify a linear equation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ow do you identify the slope and y intercept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at does the slope tell us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at does the y-intercept tell us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ow do you graph a linear equation… using a table? using slope intercept form? using a graphing calculator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ow can we use linear equations to model real world situtations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inear Algeb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project will help my students develop 21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entury skills by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3505320"/>
            <a:ext cx="7238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ing with peer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231840" indent="-231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ing data about linear models and drawing conclusions to answer Unit Questio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231840" indent="-231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problems and making decisio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231840" indent="-231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ng with others in a wik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auging Student Needs Assessme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1371600"/>
            <a:ext cx="77724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  <a:ea typeface="Arial"/>
              </a:rPr>
              <a:t>Purpose of the Assessm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  <a:ea typeface="Arial"/>
              </a:rPr>
              <a:t>To gather information about what prior knowledge my students have regarding linear algebra and to measure what information they have gained from the units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  <a:ea typeface="Arial"/>
              </a:rPr>
              <a:t>How I have tried to promote higher-order thinking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  <a:ea typeface="Arial"/>
              </a:rPr>
              <a:t>I ask students to find relationships and draw conclusions regarding linear algebr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  <a:ea typeface="Arial"/>
              </a:rPr>
              <a:t>How the assessment information helps me and my students plan for upcoming activities in the unit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  <a:ea typeface="Arial"/>
              </a:rPr>
              <a:t>Assessments will enable me to move from one activity to the next knowing that my students have mastered the previous material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  <a:ea typeface="Arial"/>
              </a:rPr>
              <a:t>What feedback or additional ideas I’d like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  <a:ea typeface="Arial"/>
              </a:rPr>
              <a:t>How do I move through unit plan in a timely fashion while preparing for the regents exam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696080" y="7621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7621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nd ways to get my students more interested in mathematic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arn about different kinds of technology my students and I can 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encourage my students to become independent learne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are ideas with other teach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699264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Goals for the Cour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went right and what went wro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deas for helping students take more responsibility for their own learn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Eldred Central School</cp:lastModifiedBy>
  <dcterms:modified xsi:type="dcterms:W3CDTF">2010-07-02T12:32:19Z</dcterms:modified>
  <cp:revision>19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